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1A40-A2D8-4CB1-8034-9822AD9C2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C167-4240-44B8-8F18-0899B7D8D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6F95-EA2B-42C9-AA3E-24975282F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627A-55CD-4F96-9360-BB9134ABC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E032-E6F9-4A3F-8D92-17CB618E0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D543-B6C3-4388-91CB-BB5B96768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4E6D-F8C2-4C85-8D7B-E009932EB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4728-8F91-4D16-9053-144BA1BC0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5413-C6BA-4B23-89AF-38ADD4398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52B3-4F7D-4BE6-B790-1089D00ED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9424-A751-49B2-96B9-DFF8AA01F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786F-48AD-40F9-A661-058B80A4F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85EC-D20A-4F97-A0A3-73B14B085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089D-B0CE-42A0-B3C4-8111D1039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F68E-73FD-402A-AEB0-7A399DDB5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9FFC-E9F6-4B8F-B614-B17332E6E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8234-3D22-44A5-A0F6-B2EAE8D05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2BF2-C619-4251-93D1-11188BCAC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C154-475C-4526-946E-5FAF5340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21B1-D418-4825-8861-ED3AEB7D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73D3-B59B-4139-93D9-4ED7C2D38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78B4-9ACE-4629-898E-58639D76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9621-4824-43A2-AD7B-E28C8127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A51C-8AC2-4CEB-AD11-1629B013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64A6-7520-4999-A5EA-AE0E4CC2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4091-29C7-49C4-921B-E2EF973C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C9C9-01D4-493D-965D-5BD67251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3663-37D0-44AD-9F53-DC777C51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561E-E0E8-4833-AB9E-E00D1BF6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19D6-64F6-4504-A033-F25F3F13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01C2-249A-4ACD-8124-BDD5226C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C244-4769-46F6-A5FC-B439DD0A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DEE3-D086-4E02-A639-F45F0B2A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A6C3-FEF7-4955-A764-62F4772C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ACF7-1899-4D42-B159-6948039F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52216-EC2D-4829-9859-6E97C4E4D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8BE23-6904-4B4F-8B57-6D10040E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F38B8-9CA6-4643-A0DC-520443DE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B1CF4-5822-4D99-8AA0-823A23C6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DA0AA-AA91-4DF1-A718-0E5BD1BE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B143-AFA1-463C-9FF4-042D870F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D1F11-C82B-4BE4-9A9B-57C172C5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E19BB-7064-43F4-B314-37DA9895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214C4-BAB7-4162-8117-FAE48A24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CAEDB-F9B6-4A84-8958-02EE1004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18113-7693-421A-BEF5-A3F0BE2D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0C1EB-9468-4674-9D96-275338277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BBF2E-9482-4AD6-9123-D71CF9604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8E7FA-80D1-4D7C-B70F-78DE8FA03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60106-B6F6-4BD2-8F2D-8E085C10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69260-D342-42F8-A410-20825EA3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6853-8787-47C2-A505-B2E09A5F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92199-64F7-46BF-9150-5FB9CC83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FF2E6-15A4-45A7-A72F-AD2588B4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5FCCD-4C04-45C0-90D2-04751D4B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B53AF-A761-4CDA-BDD4-D79293FF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F4F01-949F-466A-9E19-67F6780F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7C063-C0CD-4F8F-ABA1-8AF230AA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A170C-DF7B-4496-AF8F-4A500A4E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58CFF-CD6E-4607-BF51-29B0AF1CC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BCDE3-9702-4DD0-B79E-0C116C71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C527-20AA-4ED9-99BD-A24C9BB0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BBE5-5037-47A8-8995-631D1662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BD6E-18D2-42B2-9980-12937C77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6F49-9DD2-4440-B1C1-D1D1F316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FE3A-4E6E-4D75-B2E4-C9E3756A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00E1-B824-4612-BBD6-C5D7EAB7442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18D2-6C56-41C3-8D61-480A768D08B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188B-5DF0-47AE-BABE-30E7DF3DA34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3899-071F-4846-8066-6C5A49DB356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75360" cy="19447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1436760" y="4038480"/>
            <a:ext cx="66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ACES – UNITE 7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914040" y="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En ville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8"/>
          <p:cNvSpPr/>
          <p:nvPr/>
        </p:nvSpPr>
        <p:spPr>
          <a:xfrm>
            <a:off x="1523880" y="5373720"/>
            <a:ext cx="643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ndre le métr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5" descr="images.jpeg"/>
          <p:cNvPicPr/>
          <p:nvPr/>
        </p:nvPicPr>
        <p:blipFill>
          <a:blip r:embed="rId2"/>
          <a:stretch/>
        </p:blipFill>
        <p:spPr>
          <a:xfrm>
            <a:off x="2133720" y="990720"/>
            <a:ext cx="5638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914040" y="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En ville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8"/>
          <p:cNvSpPr/>
          <p:nvPr/>
        </p:nvSpPr>
        <p:spPr>
          <a:xfrm>
            <a:off x="1523880" y="5373720"/>
            <a:ext cx="643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 station de métr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5" descr="images-1.jpeg"/>
          <p:cNvPicPr/>
          <p:nvPr/>
        </p:nvPicPr>
        <p:blipFill>
          <a:blip r:embed="rId2"/>
          <a:stretch/>
        </p:blipFill>
        <p:spPr>
          <a:xfrm>
            <a:off x="2362320" y="1295280"/>
            <a:ext cx="46479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914040" y="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En vacances 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8"/>
          <p:cNvSpPr/>
          <p:nvPr/>
        </p:nvSpPr>
        <p:spPr>
          <a:xfrm>
            <a:off x="914400" y="5410080"/>
            <a:ext cx="64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s une vil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5" descr="images-2.jpeg"/>
          <p:cNvPicPr/>
          <p:nvPr/>
        </p:nvPicPr>
        <p:blipFill>
          <a:blip r:embed="rId2"/>
          <a:stretch/>
        </p:blipFill>
        <p:spPr>
          <a:xfrm>
            <a:off x="1066680" y="990720"/>
            <a:ext cx="6858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914040" y="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En vacances 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8"/>
          <p:cNvSpPr/>
          <p:nvPr/>
        </p:nvSpPr>
        <p:spPr>
          <a:xfrm>
            <a:off x="914400" y="5410080"/>
            <a:ext cx="64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s une capita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5" descr="DownloadedFile-1.jpeg"/>
          <p:cNvPicPr/>
          <p:nvPr/>
        </p:nvPicPr>
        <p:blipFill>
          <a:blip r:embed="rId2"/>
          <a:stretch/>
        </p:blipFill>
        <p:spPr>
          <a:xfrm>
            <a:off x="2438280" y="1219320"/>
            <a:ext cx="5334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914040" y="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En vacances 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914400" y="5410080"/>
            <a:ext cx="64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À la campag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5" descr="images-3.jpeg"/>
          <p:cNvPicPr/>
          <p:nvPr/>
        </p:nvPicPr>
        <p:blipFill>
          <a:blip r:embed="rId2"/>
          <a:stretch/>
        </p:blipFill>
        <p:spPr>
          <a:xfrm>
            <a:off x="1143000" y="1447920"/>
            <a:ext cx="6629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914040" y="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En vacances 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8"/>
          <p:cNvSpPr/>
          <p:nvPr/>
        </p:nvSpPr>
        <p:spPr>
          <a:xfrm>
            <a:off x="914400" y="5410080"/>
            <a:ext cx="64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s une sation de s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5" descr="images-4.jpeg"/>
          <p:cNvPicPr/>
          <p:nvPr/>
        </p:nvPicPr>
        <p:blipFill>
          <a:blip r:embed="rId2"/>
          <a:stretch/>
        </p:blipFill>
        <p:spPr>
          <a:xfrm>
            <a:off x="2286000" y="838080"/>
            <a:ext cx="4572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914040" y="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En vacances 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8"/>
          <p:cNvSpPr/>
          <p:nvPr/>
        </p:nvSpPr>
        <p:spPr>
          <a:xfrm>
            <a:off x="914400" y="5410080"/>
            <a:ext cx="64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À la mer/ à la pl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5" descr="mediterranean-beaches.jpg"/>
          <p:cNvPicPr/>
          <p:nvPr/>
        </p:nvPicPr>
        <p:blipFill>
          <a:blip r:embed="rId2"/>
          <a:stretch/>
        </p:blipFill>
        <p:spPr>
          <a:xfrm>
            <a:off x="1628640" y="1206360"/>
            <a:ext cx="5270760" cy="42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914040" y="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En vacances 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8"/>
          <p:cNvSpPr/>
          <p:nvPr/>
        </p:nvSpPr>
        <p:spPr>
          <a:xfrm>
            <a:off x="914400" y="5410080"/>
            <a:ext cx="64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nz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5" descr="images-5.jpeg"/>
          <p:cNvPicPr/>
          <p:nvPr/>
        </p:nvPicPr>
        <p:blipFill>
          <a:blip r:embed="rId2"/>
          <a:stretch/>
        </p:blipFill>
        <p:spPr>
          <a:xfrm>
            <a:off x="1600200" y="838080"/>
            <a:ext cx="55627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914040" y="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En avion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2438280" y="556272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heter un billet d’av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2" descr="http://www.myfingerprintreader.com/wp-content/uploads/2011/09/through-airport-security.jpg"/>
          <p:cNvPicPr/>
          <p:nvPr/>
        </p:nvPicPr>
        <p:blipFill>
          <a:blip r:embed="rId2"/>
          <a:stretch/>
        </p:blipFill>
        <p:spPr>
          <a:xfrm>
            <a:off x="2916360" y="1916280"/>
            <a:ext cx="4476600" cy="28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914040" y="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En avion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Box 8"/>
          <p:cNvSpPr/>
          <p:nvPr/>
        </p:nvSpPr>
        <p:spPr>
          <a:xfrm>
            <a:off x="3276720" y="558972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 dépa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9" descr="http://contrailscience.com/wp-content/uploads/boeing_b-47b_rocket-assisted_take_off.jpg"/>
          <p:cNvPicPr/>
          <p:nvPr/>
        </p:nvPicPr>
        <p:blipFill>
          <a:blip r:embed="rId2"/>
          <a:stretch/>
        </p:blipFill>
        <p:spPr>
          <a:xfrm>
            <a:off x="2627280" y="1773360"/>
            <a:ext cx="45752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914040" y="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En avion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3657600" y="54864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’arriv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2" descr="http://farm3.static.flickr.com/2379/2129589191_6006773170.jpg"/>
          <p:cNvPicPr/>
          <p:nvPr/>
        </p:nvPicPr>
        <p:blipFill>
          <a:blip r:embed="rId2"/>
          <a:stretch/>
        </p:blipFill>
        <p:spPr>
          <a:xfrm>
            <a:off x="2484360" y="184464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914040" y="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En avion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Box 8"/>
          <p:cNvSpPr/>
          <p:nvPr/>
        </p:nvSpPr>
        <p:spPr>
          <a:xfrm>
            <a:off x="2627280" y="537372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ou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2" descr="http://www.johnnyjet.com/images/PicsForNewsletterJuly2005GenevaCarolClearingCustoms.JPG"/>
          <p:cNvPicPr/>
          <p:nvPr/>
        </p:nvPicPr>
        <p:blipFill>
          <a:blip r:embed="rId2"/>
          <a:stretch/>
        </p:blipFill>
        <p:spPr>
          <a:xfrm>
            <a:off x="2987640" y="1521000"/>
            <a:ext cx="5087880" cy="38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14040" y="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En train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8"/>
          <p:cNvSpPr/>
          <p:nvPr/>
        </p:nvSpPr>
        <p:spPr>
          <a:xfrm>
            <a:off x="2340000" y="5732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g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5" descr="images-6.jpeg"/>
          <p:cNvPicPr/>
          <p:nvPr/>
        </p:nvPicPr>
        <p:blipFill>
          <a:blip r:embed="rId2"/>
          <a:stretch/>
        </p:blipFill>
        <p:spPr>
          <a:xfrm>
            <a:off x="1295280" y="1601640"/>
            <a:ext cx="685800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914040" y="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En train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8"/>
          <p:cNvSpPr/>
          <p:nvPr/>
        </p:nvSpPr>
        <p:spPr>
          <a:xfrm>
            <a:off x="2340000" y="5732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in 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d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2" descr="http://blog.chasenantiques.com/wp-content/uploads/2011/09/tgv-train.jpg"/>
          <p:cNvPicPr/>
          <p:nvPr/>
        </p:nvPicPr>
        <p:blipFill>
          <a:blip r:embed="rId2"/>
          <a:stretch/>
        </p:blipFill>
        <p:spPr>
          <a:xfrm>
            <a:off x="205092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914040" y="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En train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8"/>
          <p:cNvSpPr/>
          <p:nvPr/>
        </p:nvSpPr>
        <p:spPr>
          <a:xfrm>
            <a:off x="1523880" y="5373720"/>
            <a:ext cx="64328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billet aller –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billet aller- retou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2" descr="http://www.frenchentree.com/french-language-learn/images/composter_un_billetinside.jpg"/>
          <p:cNvPicPr/>
          <p:nvPr/>
        </p:nvPicPr>
        <p:blipFill>
          <a:blip r:embed="rId2"/>
          <a:stretch/>
        </p:blipFill>
        <p:spPr>
          <a:xfrm>
            <a:off x="2124000" y="1916280"/>
            <a:ext cx="4695840" cy="30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14040" y="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En ville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Box 8"/>
          <p:cNvSpPr/>
          <p:nvPr/>
        </p:nvSpPr>
        <p:spPr>
          <a:xfrm>
            <a:off x="1523880" y="5373720"/>
            <a:ext cx="643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ndre le b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5" descr="DownloadedFile.jpeg"/>
          <p:cNvPicPr/>
          <p:nvPr/>
        </p:nvPicPr>
        <p:blipFill>
          <a:blip r:embed="rId2"/>
          <a:stretch/>
        </p:blipFill>
        <p:spPr>
          <a:xfrm>
            <a:off x="1447920" y="1143000"/>
            <a:ext cx="64767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21:12:35Z</dcterms:created>
  <dc:creator>Mr. Smith</dc:creator>
  <dc:description/>
  <dc:language>en-US</dc:language>
  <cp:lastModifiedBy>Viviane Grebert</cp:lastModifiedBy>
  <dcterms:modified xsi:type="dcterms:W3CDTF">2011-12-10T21:25:24Z</dcterms:modified>
  <cp:revision>86</cp:revision>
  <dc:subject/>
  <dc:title>La Touraine</dc:title>
</cp:coreProperties>
</file>